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31226"/>
        <c:axId val="92715164"/>
      </c:barChart>
      <c:catAx>
        <c:axId val="41331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15164"/>
        <c:crosses val="autoZero"/>
        <c:auto val="1"/>
        <c:lblAlgn val="ctr"/>
        <c:lblOffset val="100"/>
        <c:noMultiLvlLbl val="0"/>
      </c:catAx>
      <c:valAx>
        <c:axId val="927151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31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834-977C-456F-8C73-82431374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05B9-1040-4C56-9C47-D7D7CD77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831B-7F36-4F0A-BB62-7B405830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D2A1-1B29-48F2-BCBD-8553A763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84D0-9EEE-4E7C-AAD4-9914371B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4CFC-EA40-461C-BD49-56A495E9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171-7B4C-4B5A-A363-37F0712E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F11D-7A72-47D4-AE79-0F9349E6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C15-F0A5-4CEE-9D53-89FED626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2C0A-2483-41F7-9421-8E2990F6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8F2-9B35-4E6F-9BBE-9B971F52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46AF-B4E7-45E9-94F7-E8D0537F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29F5C-B485-41F1-840B-1761F18A7C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