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7837762"/>
        <c:axId val="83142913"/>
      </c:barChart>
      <c:catAx>
        <c:axId val="8783776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142913"/>
        <c:crosses val="autoZero"/>
        <c:auto val="1"/>
        <c:lblAlgn val="ctr"/>
        <c:lblOffset val="100"/>
        <c:noMultiLvlLbl val="0"/>
      </c:catAx>
      <c:valAx>
        <c:axId val="8314291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83776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0BBB3-F13E-4171-A255-D50C9F6D5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0F477-7743-4F43-A637-C50D69CDB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4B708-8D60-47B8-8E1D-851EDEADE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47FE9-8C41-4273-8F07-D57284E00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97DF1-E79A-4E42-8CB7-2D291400D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21630-2492-44B6-BD52-995F030D4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2955F-6B2F-4D2E-9DF0-7A6392C41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B1F15-6C8C-47A4-9072-B0418793C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66B6C-F7BA-4CFA-87DE-68CDCA5C0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C712F-584A-4A87-B988-6864ECA38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33AE0-DF7A-4502-A2D0-C88ADD5AD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E2D28-4AEE-4BC0-8A1D-C272C42DE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6E792D-8F19-4CFB-913D-B8539BC92CD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