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72612"/>
        <c:axId val="5919105"/>
      </c:barChart>
      <c:catAx>
        <c:axId val="81726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9105"/>
        <c:crosses val="autoZero"/>
        <c:auto val="1"/>
        <c:lblAlgn val="ctr"/>
        <c:lblOffset val="100"/>
        <c:noMultiLvlLbl val="0"/>
      </c:catAx>
      <c:valAx>
        <c:axId val="59191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26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0286-0569-47B8-A2E6-3756360F2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9C27-88F1-473C-A418-4AFA94C5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5B7A-6532-4844-87A6-77C84C67F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A812-E53E-465A-AFA9-4AEFE478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A1AE-C60C-4F67-A3B8-977AB814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310B-2D0D-4B7B-B01E-9CD5DFD3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8275-04C5-46EB-8D69-63DD023D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2EEF-C536-4E70-A482-04AEEC11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1887-A8A4-4649-B978-2D48B221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222E-5EB9-4C78-AF5E-22BBF0A6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39C9-DB36-4A9A-8687-BEA236AE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8CAB-7046-4BDD-AA5D-067580D3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1157FD-700D-4E4A-8850-005DD5F018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