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56073"/>
        <c:axId val="1842427"/>
      </c:barChart>
      <c:catAx>
        <c:axId val="14056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2427"/>
        <c:crosses val="autoZero"/>
        <c:auto val="1"/>
        <c:lblAlgn val="ctr"/>
        <c:lblOffset val="100"/>
        <c:noMultiLvlLbl val="0"/>
      </c:catAx>
      <c:valAx>
        <c:axId val="1842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56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E96-6669-4D82-B67C-302DDF6D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A77-826A-41B5-B15E-8F0EE4C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8BF-9C21-46E2-AB56-D6EE6A18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6A4-B0BD-4C1F-B406-1F4682BC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C1B-7AA1-4053-A7A4-F5FF0F05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3D5-9437-47AC-AC28-3CA01FAD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E37-D4DF-42AF-9052-3FC86441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E9F-0547-47B0-8D34-A824D910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C3F-C21F-495A-9A60-A25A4C3A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97D-BCAB-4FED-8DD9-56D6FFC0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88C-75E8-447F-BE8B-B45408EA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153-E313-4FD8-BFF2-6BE0767C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08801-0C25-4ABE-B54B-BA91115213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